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EA0-FE5D-4E97-B723-9A06CB92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2BE-CECA-4B82-8ABB-44ABCC84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A4B-8488-4994-93E8-F631D411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69F-3FA1-4827-B74C-391EE2DC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D20-12E1-405E-BCAF-301B98B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E8A-6A9E-4B95-88DA-0E497CA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45A-A26A-4B78-89C5-F999FFB1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ECA-C034-4A9C-B977-DB430931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3A7-5526-4056-8C50-BF130FE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450-040C-4567-B56E-D16CB15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DFF-9BE9-4986-9D60-27D9639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568-A24F-487F-9994-B2A2F6F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99B7-CF03-43AB-BA45-6CA5C66C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609480"/>
            <a:ext cx="2676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ssica Sav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5562720"/>
            <a:ext cx="11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ni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84668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5267400">
            <a:off x="5333400" y="2971800"/>
            <a:ext cx="2914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578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570800">
            <a:off x="2133720" y="1752480"/>
            <a:ext cx="4619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/ Partn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18176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1626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1 ~ Fish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4324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2098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1 ~ Fish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3243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28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317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06:54Z</dcterms:created>
  <dc:creator>Bal_jmsavage</dc:creator>
  <dc:description/>
  <dc:language>en-US</dc:language>
  <cp:lastModifiedBy>C</cp:lastModifiedBy>
  <dcterms:modified xsi:type="dcterms:W3CDTF">2009-05-22T20:08:17Z</dcterms:modified>
  <cp:revision>6</cp:revision>
  <dc:subject/>
  <dc:title>Slide 1</dc:title>
</cp:coreProperties>
</file>